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B57-C238-472D-8AA7-9259705F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7B9-4845-4D63-84F4-E08DEB11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5A1-0D33-418D-BB6B-07C5B382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5D0-7576-46CA-8B56-95D414AA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A5D9-2654-43E1-91E1-ADB7EF24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53D0-A1E6-4AE9-906D-94DE2ADF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7577-296C-48AC-9DCA-66593A0B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8B8C-BA6A-49BD-9429-60B4B492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4C21-CFB7-4FA3-9843-36313CB7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FF39-59C6-4253-B1F6-9CD2160C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38A2-9003-4A3A-ADD1-0277B36E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267F-27A8-4586-96AF-0AA6820F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18EA-F2E3-4397-8320-18A0FEBC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DDF7-EA9E-4AC3-9EC4-1B8DA161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A4CF-73A2-4FA3-BFA5-0219AA00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D69A-C8C4-4769-99E8-60BC909A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F9E4-8AA0-4B1E-8D00-54A7DD0E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619-BA56-4671-A546-C32705E7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F3BC-05C3-4154-82FD-B7E12615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D3F2-3E58-4524-A72C-B17907AE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3566-AACB-43A2-979C-B8ED45E5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85D-208A-481B-BE07-3255A169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4CCB-201B-4CEB-A363-3E59A41B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5E41-ECC5-4E5A-81FA-0B86CC38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B1CE-CE96-4F08-832E-AA2B62294C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F6D2-7BD7-48E8-B324-5D52F94E47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Контроль качества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00240"/>
            <a:ext cx="8121600" cy="54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документации, отражающей вопросы организации контроля качества на разных стадиях проектирования и строительства, включая контроль качества производства отдельных строительно-монтажных работ. Программный модуль состоит из двух раздел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 первом разделе представлены задачи, освещающие общие вопросы управления качеством строительной продукции, организации входного контроля проектно-сметной документации, контроля качества материалов, конструкций и изделий, операционный контроль качества, приемочный контроль, авторский надзор, технический надзор, государственный контроль качества строительства, организация служб технического контроля и строительных лабораторий, геодезический контроль, всего 10 задач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торой раздел содержит положения, отражающие вопросы контроля качества основных строительно-монтажных работ, включая работы, выполняемые грузоподъемными механизмами и работы подготовительного периода; всего 22 задач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нужным образом отредактировать отобранный материал и  оформить его в виде необходимого докумен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актуальных требованиях нормативно-правового регулирования при проектировании, строительстве и реконструкции объектов капитального строитель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26248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485640" y="1271520"/>
            <a:ext cx="817272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216080" y="1668600"/>
            <a:ext cx="6931080" cy="200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409760" y="1222200"/>
            <a:ext cx="6370560" cy="32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4244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документ, отражающей вопросы организации контроля качества строительства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704960" y="1362240"/>
            <a:ext cx="6265800" cy="270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4-13T14:36:36Z</dcterms:modified>
  <cp:revision>242</cp:revision>
  <dc:subject/>
  <dc:title>Слайд 1</dc:title>
</cp:coreProperties>
</file>